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AF40-88E6-4AAB-B3F7-2F8FF05A2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E5B8-154C-49F1-B9B7-E70E887D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E2D2-FFAE-488C-9649-7A59B23C0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330D-4E33-4FE2-A62C-42EDFCA7A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D846-9F7D-49A1-B87A-BECA19600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51A1-E757-4B6A-8D75-735D5665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D0C9-3580-4A29-A9D6-1E63374AF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4FD5-36B3-47B9-9DBF-ED456497B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1EA1-2A67-4A4D-868D-8914F711B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3814-2178-4154-BA93-BDE0A1D9D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0DE7-E8AE-4D70-8E7E-93BD3BD38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40A1-0713-4A9D-BF83-9037C8DED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E767-0071-4C12-8817-ACD4E9292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D2912-0447-447D-BF61-FFB689351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AFAB-5665-4693-B0B2-89C4B5D1E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320B-3AF9-4ECA-84B3-EA9B167B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42E0-5117-4B11-93F1-139D76DC7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5D02-4C18-479C-B835-55643CF7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DB75-4382-4644-9703-48B094A60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2AE6-0BE9-4685-ACAA-946F87A1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5C98-5725-4A73-A961-DA583CAAC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73BC-F299-4FA7-9397-8EDAA4EB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27E3-7896-46AB-A1E3-41C8D593C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33344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CTOR CHARACTERS DID THESE ACTORS PLAY ON TV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638360" y="762120"/>
            <a:ext cx="58672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"HAWKEYE"  PIE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"J.D."  DOR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"BONES"  MCC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GIE  HOW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EDITH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CLIFF  HUX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UGH LAUR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TIN FRE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WEL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YO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N AL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ZACH BRA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OREST KELL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IL PATRICK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LEN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COS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3:18:27Z</dcterms:created>
  <dc:creator>Jennifer Budzinski</dc:creator>
  <dc:description/>
  <dc:language>en-US</dc:language>
  <cp:lastModifiedBy>Erich Friedman</cp:lastModifiedBy>
  <dcterms:modified xsi:type="dcterms:W3CDTF">2020-09-04T14:22:11Z</dcterms:modified>
  <cp:revision>329</cp:revision>
  <dc:subject/>
  <dc:title>Slide 1</dc:title>
</cp:coreProperties>
</file>