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BA0-153B-4803-BC17-05601F7A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2BC4-7079-431B-8A89-B8030000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C87-DF16-463C-8AF1-B58EAA23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821-99C7-490B-B298-8DDFBCF5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3A0-987B-4369-AAFF-99EEF149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54CE-FA01-42C7-B18C-BEB8A281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583-5052-4772-A441-8F9668BC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449C-B7FD-4FCC-A025-116840F3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57E5-8439-4D7F-83A2-7B332065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D6BB-E89F-4BE9-8044-CC398166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5A52-C4F3-4F66-B663-6C2DD2F3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599-FAFD-4397-B876-100C94959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0909-D355-4165-9380-20907FDC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B4FB-8D5E-407F-9BD0-2FCB9FD6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AC33-EF99-4B88-A4E2-97C23B34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7B1-BD1F-484F-9FC0-471A379C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D466-E697-460B-8146-B9289C42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CE3-1521-4DBA-8DFD-BAEB108D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1EBE-002A-470D-A142-13AD0A2C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06A-7BA7-48F3-AC0F-D2D934DF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328E-5F81-4F81-8E22-CA65B41A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58C-93E6-4135-858B-BD6EF0BD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740B-E930-4E5E-AD93-A0E2F91F9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33344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CTOR CHARACTERS DID THESE ACTORS PLAY ON TV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TIN FRE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38360" y="762120"/>
            <a:ext cx="5867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GH LAUR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"HAWKEYE"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N AL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"J.D."  DO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CH BRA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"BONES"  MCC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OREST KEL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GIE  HOW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L PATRICK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EDITH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EN POMP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CLIFF  HUX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COS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GH LAUR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TIN FRE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WEL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N AL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CH BRA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OREST KEL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L PATRICK HAR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EN POMP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COS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3:18:27Z</dcterms:created>
  <dc:creator>Jennifer Budzinski</dc:creator>
  <dc:description/>
  <dc:language>en-US</dc:language>
  <cp:lastModifiedBy>Erich Friedman</cp:lastModifiedBy>
  <dcterms:modified xsi:type="dcterms:W3CDTF">2020-09-04T14:22:11Z</dcterms:modified>
  <cp:revision>329</cp:revision>
  <dc:subject/>
  <dc:title>Slide 1</dc:title>
</cp:coreProperties>
</file>