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9B19-DB47-4708-B46A-0FE95334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9B1-E5BE-48F8-AE10-1872B63B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BE2-1A9A-4594-8532-D42A4589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AF5-9E53-4619-A651-43CC94B6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B91-22CE-43FD-BF70-6A267EBD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6706-132F-4496-B392-C274F7E5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EB0E-74FC-4ED9-9E71-8D251CFF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CDE-3541-4E43-9F39-E8E0E0F8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2E7B-274C-4762-BA4F-8FED22E9E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963-610D-4862-AA25-9A78724B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2468-EB6E-4567-97A9-8FD567DB1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372-E21C-4C15-A444-B58C90F77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0359-5163-40E7-86B4-6D75959B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C14-3804-4471-BEBD-E5B1343E2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9E7B-BCEE-44C0-B885-81B2D0CA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157-3B74-4013-B0FA-D5208FB1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59C-C274-4B41-8C76-AD939D545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F098-98EF-44B5-8669-66C68A5D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B230-B45D-4CD1-9E1F-55DCCF3DE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A389-8726-4B41-AA80-E348BB32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9408-702E-402D-B33E-C89625D38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E84-874B-47F0-90B7-EBDF52D1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547-AC69-4618-A409-03F1B9B1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33344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CTOR CHARACTERS DID THESE ACTORS PLAY ON TV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TIN FRE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38360" y="762120"/>
            <a:ext cx="5867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GH LAUR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"HAWKEYE"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N AL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"J.D."  DO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CH BRA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"BONES"  MCC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OREST KEL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GIE  HOW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L PATRICK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EDITH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EN POMP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CLIFF  HUX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COS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GH LAUR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TIN FRE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WEL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N AL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CH BRA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OREST KEL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L PATRICK HAR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EN POMP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COS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3:18:27Z</dcterms:created>
  <dc:creator>Jennifer Budzinski</dc:creator>
  <dc:description/>
  <dc:language>en-US</dc:language>
  <cp:lastModifiedBy>Erich Friedman</cp:lastModifiedBy>
  <dcterms:modified xsi:type="dcterms:W3CDTF">2020-09-04T14:22:11Z</dcterms:modified>
  <cp:revision>329</cp:revision>
  <dc:subject/>
  <dc:title>Slide 1</dc:title>
</cp:coreProperties>
</file>