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6DC4-8BA2-442E-BDF7-DA0102C2E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4A21-0F4E-4975-87F6-814042DD8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5B0A-16D6-410A-A947-EBFB80F0C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6D8B-EA2B-46B6-AD74-E18527EC5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CB11-8E9E-497C-8B13-C5F88CEAB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26E4-DEC8-4ED4-8A7E-A2FFC0CA6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CED7-625A-43DB-A0B2-B3BFC820E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59E5-ACEC-45BA-816B-2DA3B13FB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0C78-0AFA-4082-8077-ACC92CAAC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0D43-45BD-443F-898C-3D35DA840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F602-7887-443B-8FC6-3F1B9D094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C88E-7B9D-4D01-AFA6-9E5282F38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3C56-ACE3-4E2A-B350-6D2ADCE11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ECA1-4B7D-490E-B12F-9A35D4C4F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0E49-2503-4312-BB1B-7048FEC18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A4E8-DB41-4554-9893-62979FEAC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C6A6-9CE6-4FBA-87A7-CC41F05D0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391B-E44E-4CB9-9EBF-B548BE78E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3B74-AED1-4281-A529-BA1E3DC52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AC7D-D72D-4878-8425-7E1EAFBE0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84AB-3CD2-4564-8AE9-DDA87C418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AE9D-BEDA-49EF-A974-0D855B246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3C39-529C-4FE6-B48F-AAA79F9DA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3344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TV SHOW THAT HAD THESE BROM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df5ebeaa25eb80666ef5fa69d2a2605e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1ee0ed7d97d2be729cc096ee13b14fb1.jpg"/>
          <p:cNvPicPr/>
          <p:nvPr/>
        </p:nvPicPr>
        <p:blipFill>
          <a:blip r:embed="rId1"/>
          <a:stretch/>
        </p:blipFill>
        <p:spPr>
          <a:xfrm>
            <a:off x="1828800" y="1219320"/>
            <a:ext cx="56008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  LEGAL  (ALAN  &amp;  DENN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Boston-Legal-Alan-Denny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10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  (SHAWN  &amp;  G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384619794ac0f169932528e44ce66d15.jpg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FFICE  (DWIGHT  &amp;  MICHA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06d5522d87494c6b3276634f79912fad.jpg"/>
          <p:cNvPicPr/>
          <p:nvPr/>
        </p:nvPicPr>
        <p:blipFill>
          <a:blip r:embed="rId1"/>
          <a:stretch/>
        </p:blipFill>
        <p:spPr>
          <a:xfrm>
            <a:off x="1752480" y="1219320"/>
            <a:ext cx="5562720" cy="37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UBS  (TURK  &amp;  J.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fef8a32c1ea63ce4f9e9a1bef51621ca.jpg"/>
          <p:cNvPicPr/>
          <p:nvPr/>
        </p:nvPicPr>
        <p:blipFill>
          <a:blip r:embed="rId1"/>
          <a:stretch/>
        </p:blipFill>
        <p:spPr>
          <a:xfrm>
            <a:off x="1905120" y="12193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57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BANG  THEORY  (HOWARD  &amp;  RAJ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1f8756b8ab5aec7f32ebefce89dec80f.jpg"/>
          <p:cNvPicPr/>
          <p:nvPr/>
        </p:nvPicPr>
        <p:blipFill>
          <a:blip r:embed="rId1"/>
          <a:stretch/>
        </p:blipFill>
        <p:spPr>
          <a:xfrm>
            <a:off x="2076480" y="1236600"/>
            <a:ext cx="4991040" cy="332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57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SE  LINE  IS  IT  ANYWAY?  (RYAN  &amp;  COL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25b11cf572175e3673a0d80c7d494beb.jpg"/>
          <p:cNvPicPr/>
          <p:nvPr/>
        </p:nvPicPr>
        <p:blipFill>
          <a:blip r:embed="rId1"/>
          <a:stretch/>
        </p:blipFill>
        <p:spPr>
          <a:xfrm>
            <a:off x="2114640" y="1295280"/>
            <a:ext cx="49147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16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RS  (NORM  &amp;  CLIF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e57862941ace0e3a47669c5d04ce9d9a.jpg"/>
          <p:cNvPicPr/>
          <p:nvPr/>
        </p:nvPicPr>
        <p:blipFill>
          <a:blip r:embed="rId1"/>
          <a:stretch/>
        </p:blipFill>
        <p:spPr>
          <a:xfrm>
            <a:off x="1762200" y="1260360"/>
            <a:ext cx="5619600" cy="374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Boston-Legal-Alan-Denny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10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7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1752480" y="457200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ME  OF  THRONES  (TYRION  &amp;  VARY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gallery-1474895870-tyrion-varys.jpg"/>
          <p:cNvPicPr/>
          <p:nvPr/>
        </p:nvPicPr>
        <p:blipFill>
          <a:blip r:embed="rId1"/>
          <a:stretch/>
        </p:blipFill>
        <p:spPr>
          <a:xfrm>
            <a:off x="1943280" y="1254240"/>
            <a:ext cx="5257800" cy="33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TREK  (SPOCK  &amp;  JI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df5ebeaa25eb80666ef5fa69d2a2605e.jpg"/>
          <p:cNvPicPr/>
          <p:nvPr/>
        </p:nvPicPr>
        <p:blipFill>
          <a:blip r:embed="rId1"/>
          <a:stretch/>
        </p:blipFill>
        <p:spPr>
          <a:xfrm>
            <a:off x="19432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9104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NDS  (JOEY  &amp;  CHANDL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1ee0ed7d97d2be729cc096ee13b14fb1.jpg"/>
          <p:cNvPicPr/>
          <p:nvPr/>
        </p:nvPicPr>
        <p:blipFill>
          <a:blip r:embed="rId1"/>
          <a:stretch/>
        </p:blipFill>
        <p:spPr>
          <a:xfrm>
            <a:off x="1771560" y="1219320"/>
            <a:ext cx="56008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384619794ac0f169932528e44ce66d15.jpg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06d5522d87494c6b3276634f79912fad.jpg"/>
          <p:cNvPicPr/>
          <p:nvPr/>
        </p:nvPicPr>
        <p:blipFill>
          <a:blip r:embed="rId1"/>
          <a:stretch/>
        </p:blipFill>
        <p:spPr>
          <a:xfrm>
            <a:off x="1828800" y="1219320"/>
            <a:ext cx="556272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fef8a32c1ea63ce4f9e9a1bef51621ca.jpg"/>
          <p:cNvPicPr/>
          <p:nvPr/>
        </p:nvPicPr>
        <p:blipFill>
          <a:blip r:embed="rId1"/>
          <a:stretch/>
        </p:blipFill>
        <p:spPr>
          <a:xfrm>
            <a:off x="1905120" y="12193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1f8756b8ab5aec7f32ebefce89dec80f.jpg"/>
          <p:cNvPicPr/>
          <p:nvPr/>
        </p:nvPicPr>
        <p:blipFill>
          <a:blip r:embed="rId1"/>
          <a:stretch/>
        </p:blipFill>
        <p:spPr>
          <a:xfrm>
            <a:off x="1981080" y="1282680"/>
            <a:ext cx="518184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25b11cf572175e3673a0d80c7d494beb.jpg"/>
          <p:cNvPicPr/>
          <p:nvPr/>
        </p:nvPicPr>
        <p:blipFill>
          <a:blip r:embed="rId1"/>
          <a:stretch/>
        </p:blipFill>
        <p:spPr>
          <a:xfrm>
            <a:off x="1981080" y="1219320"/>
            <a:ext cx="5181840" cy="34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e57862941ace0e3a47669c5d04ce9d9a.jpg"/>
          <p:cNvPicPr/>
          <p:nvPr/>
        </p:nvPicPr>
        <p:blipFill>
          <a:blip r:embed="rId1"/>
          <a:stretch/>
        </p:blipFill>
        <p:spPr>
          <a:xfrm>
            <a:off x="1714680" y="12952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gallery-1474895870-tyrion-varys.jpg"/>
          <p:cNvPicPr/>
          <p:nvPr/>
        </p:nvPicPr>
        <p:blipFill>
          <a:blip r:embed="rId1"/>
          <a:stretch/>
        </p:blipFill>
        <p:spPr>
          <a:xfrm>
            <a:off x="1779480" y="1257480"/>
            <a:ext cx="5585040" cy="350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8T17:05:53Z</dcterms:created>
  <dc:creator>Jennifer Budzinski</dc:creator>
  <dc:description/>
  <dc:language>en-US</dc:language>
  <cp:lastModifiedBy>Erich Friedman</cp:lastModifiedBy>
  <dcterms:modified xsi:type="dcterms:W3CDTF">2020-09-04T14:24:23Z</dcterms:modified>
  <cp:revision>290</cp:revision>
  <dc:subject/>
  <dc:title>Slide 1</dc:title>
</cp:coreProperties>
</file>