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BA41-79F1-4905-B151-16D0A1140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4DCD-31AC-4110-9817-E124C99D5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FFC6-A6A9-44CE-9A01-42F9F97FD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29C2-A4A1-486A-8602-837A3AE9C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8A5F-E9FE-43C8-94E0-77DE04AB6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3602-0D94-427C-A6A6-0AC6A73EE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C93D-62D3-42FB-B9AE-B5C9CFFDF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2F6D-F03E-4279-BB59-F740DFB8B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2527-FA2E-4AE3-89D4-AB90A2FB7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4C94-C0F8-44E9-BBF6-15D3840FE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7859-62FC-4600-98FB-84AC740CD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B384-150B-41A0-BBF2-7F990F3ED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00FA-58CA-4114-8259-1EE2CCF19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0397-B944-41D9-B977-1CF339A1A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5C15-7B47-4BCB-894F-EA6D19771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CF1F-76EB-42AB-B165-F203661EF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39D3-8B10-4208-991A-C2CDA8F22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1712-5163-4BCB-ACAF-831D2AEC4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F161-6111-4184-9A8B-544261D23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DBA3-8EE0-42A6-A598-5962E2F6F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AFFF-8A59-4BB8-9D18-7C4EE7F24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4049-93EC-4044-958F-DF852D85C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318D-FB29-4494-852C-57DBA6C63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3344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 TV SHOW THAT HAD THESE BROMA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df5ebeaa25eb80666ef5fa69d2a2605e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1ee0ed7d97d2be729cc096ee13b14fb1.jpg"/>
          <p:cNvPicPr/>
          <p:nvPr/>
        </p:nvPicPr>
        <p:blipFill>
          <a:blip r:embed="rId1"/>
          <a:stretch/>
        </p:blipFill>
        <p:spPr>
          <a:xfrm>
            <a:off x="1828800" y="1219320"/>
            <a:ext cx="560088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STON  LEGAL  (ALAN  &amp;  DENN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Boston-Legal-Alan-Denny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310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SYCH  (SHAWN  &amp;  GU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384619794ac0f169932528e44ce66d15.jpg"/>
          <p:cNvPicPr/>
          <p:nvPr/>
        </p:nvPicPr>
        <p:blipFill>
          <a:blip r:embed="rId1"/>
          <a:stretch/>
        </p:blipFill>
        <p:spPr>
          <a:xfrm>
            <a:off x="1828800" y="121932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FFICE  (DWIGHT  &amp;  MICHA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06d5522d87494c6b3276634f79912fad.jpg"/>
          <p:cNvPicPr/>
          <p:nvPr/>
        </p:nvPicPr>
        <p:blipFill>
          <a:blip r:embed="rId1"/>
          <a:stretch/>
        </p:blipFill>
        <p:spPr>
          <a:xfrm>
            <a:off x="1752480" y="1219320"/>
            <a:ext cx="5562720" cy="37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UBS  (TURK  &amp;  J.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fef8a32c1ea63ce4f9e9a1bef51621ca.jpg"/>
          <p:cNvPicPr/>
          <p:nvPr/>
        </p:nvPicPr>
        <p:blipFill>
          <a:blip r:embed="rId1"/>
          <a:stretch/>
        </p:blipFill>
        <p:spPr>
          <a:xfrm>
            <a:off x="1905120" y="12193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57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IG  BANG  THEORY  (HOWARD  &amp;  RAJ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1f8756b8ab5aec7f32ebefce89dec80f.jpg"/>
          <p:cNvPicPr/>
          <p:nvPr/>
        </p:nvPicPr>
        <p:blipFill>
          <a:blip r:embed="rId1"/>
          <a:stretch/>
        </p:blipFill>
        <p:spPr>
          <a:xfrm>
            <a:off x="2076480" y="1236600"/>
            <a:ext cx="4991040" cy="332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57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OSE  LINE  IS  IT  ANYWAY?  (RYAN  &amp;  COLI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25b11cf572175e3673a0d80c7d494beb.jpg"/>
          <p:cNvPicPr/>
          <p:nvPr/>
        </p:nvPicPr>
        <p:blipFill>
          <a:blip r:embed="rId1"/>
          <a:stretch/>
        </p:blipFill>
        <p:spPr>
          <a:xfrm>
            <a:off x="2114640" y="1295280"/>
            <a:ext cx="491472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16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RS  (NORM  &amp;  CLIF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e57862941ace0e3a47669c5d04ce9d9a.jpg"/>
          <p:cNvPicPr/>
          <p:nvPr/>
        </p:nvPicPr>
        <p:blipFill>
          <a:blip r:embed="rId1"/>
          <a:stretch/>
        </p:blipFill>
        <p:spPr>
          <a:xfrm>
            <a:off x="1762200" y="1260360"/>
            <a:ext cx="5619600" cy="374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Boston-Legal-Alan-Denny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310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77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1752480" y="457200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ME  OF  THRONES  (TYRION  &amp;  VARY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gallery-1474895870-tyrion-varys.jpg"/>
          <p:cNvPicPr/>
          <p:nvPr/>
        </p:nvPicPr>
        <p:blipFill>
          <a:blip r:embed="rId1"/>
          <a:stretch/>
        </p:blipFill>
        <p:spPr>
          <a:xfrm>
            <a:off x="1943280" y="1254240"/>
            <a:ext cx="5257800" cy="330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  TREK  (SPOCK  &amp;  JI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df5ebeaa25eb80666ef5fa69d2a2605e.jpg"/>
          <p:cNvPicPr/>
          <p:nvPr/>
        </p:nvPicPr>
        <p:blipFill>
          <a:blip r:embed="rId1"/>
          <a:stretch/>
        </p:blipFill>
        <p:spPr>
          <a:xfrm>
            <a:off x="1943280" y="12952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9104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ENDS  (JOEY  &amp;  CHANDL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1ee0ed7d97d2be729cc096ee13b14fb1.jpg"/>
          <p:cNvPicPr/>
          <p:nvPr/>
        </p:nvPicPr>
        <p:blipFill>
          <a:blip r:embed="rId1"/>
          <a:stretch/>
        </p:blipFill>
        <p:spPr>
          <a:xfrm>
            <a:off x="1771560" y="1219320"/>
            <a:ext cx="56008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384619794ac0f169932528e44ce66d15.jpg"/>
          <p:cNvPicPr/>
          <p:nvPr/>
        </p:nvPicPr>
        <p:blipFill>
          <a:blip r:embed="rId1"/>
          <a:stretch/>
        </p:blipFill>
        <p:spPr>
          <a:xfrm>
            <a:off x="1828800" y="121932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06d5522d87494c6b3276634f79912fad.jpg"/>
          <p:cNvPicPr/>
          <p:nvPr/>
        </p:nvPicPr>
        <p:blipFill>
          <a:blip r:embed="rId1"/>
          <a:stretch/>
        </p:blipFill>
        <p:spPr>
          <a:xfrm>
            <a:off x="1828800" y="1219320"/>
            <a:ext cx="556272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fef8a32c1ea63ce4f9e9a1bef51621ca.jpg"/>
          <p:cNvPicPr/>
          <p:nvPr/>
        </p:nvPicPr>
        <p:blipFill>
          <a:blip r:embed="rId1"/>
          <a:stretch/>
        </p:blipFill>
        <p:spPr>
          <a:xfrm>
            <a:off x="1905120" y="12193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1f8756b8ab5aec7f32ebefce89dec80f.jpg"/>
          <p:cNvPicPr/>
          <p:nvPr/>
        </p:nvPicPr>
        <p:blipFill>
          <a:blip r:embed="rId1"/>
          <a:stretch/>
        </p:blipFill>
        <p:spPr>
          <a:xfrm>
            <a:off x="1981080" y="1282680"/>
            <a:ext cx="5181840" cy="34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25b11cf572175e3673a0d80c7d494beb.jpg"/>
          <p:cNvPicPr/>
          <p:nvPr/>
        </p:nvPicPr>
        <p:blipFill>
          <a:blip r:embed="rId1"/>
          <a:stretch/>
        </p:blipFill>
        <p:spPr>
          <a:xfrm>
            <a:off x="1981080" y="1219320"/>
            <a:ext cx="5181840" cy="34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e57862941ace0e3a47669c5d04ce9d9a.jpg"/>
          <p:cNvPicPr/>
          <p:nvPr/>
        </p:nvPicPr>
        <p:blipFill>
          <a:blip r:embed="rId1"/>
          <a:stretch/>
        </p:blipFill>
        <p:spPr>
          <a:xfrm>
            <a:off x="1714680" y="12952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gallery-1474895870-tyrion-varys.jpg"/>
          <p:cNvPicPr/>
          <p:nvPr/>
        </p:nvPicPr>
        <p:blipFill>
          <a:blip r:embed="rId1"/>
          <a:stretch/>
        </p:blipFill>
        <p:spPr>
          <a:xfrm>
            <a:off x="1779480" y="1257480"/>
            <a:ext cx="5585040" cy="3504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8T17:05:53Z</dcterms:created>
  <dc:creator>Jennifer Budzinski</dc:creator>
  <dc:description/>
  <dc:language>en-US</dc:language>
  <cp:lastModifiedBy>Erich Friedman</cp:lastModifiedBy>
  <dcterms:modified xsi:type="dcterms:W3CDTF">2020-09-04T14:24:23Z</dcterms:modified>
  <cp:revision>290</cp:revision>
  <dc:subject/>
  <dc:title>Slide 1</dc:title>
</cp:coreProperties>
</file>