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2761-6CC9-4A04-8E18-4F62E3FF2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A343-4A58-4ADD-899E-32EC4AF9B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1BC6-F272-4459-99D0-51ADE5DE7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E92F-43F7-4303-AB1F-29F1B8EAF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7084-D1C9-4C26-8EC1-25E072C97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B9D9-D7EF-419E-B63E-B1C08F505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8B03-ACF0-4D2C-BA76-6EE02D148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37A5-0997-4BCD-B6D0-3D9C070E9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F8C7-45F3-4850-862C-FC44C6C8F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B933-E1E9-4828-8CE1-75101100E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740C-8C83-4B77-9109-CFB105F49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329B-A8CE-4E8A-BF4E-1095CCAD3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18EA-0571-40E7-9D85-4F1DCBFEE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F845-67AC-47C3-A376-98CA43944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5834-283F-4365-ACF6-86783E7D4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7108-BBF3-4D25-9AB8-CD10A6944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B71F-1FEA-4027-9C8E-3F92ABAF8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D12C-D370-46FF-8B52-8235105D7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6551-CA74-429A-8175-C8B336CC0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6743-23B0-4C28-80B8-BDD6F4D7A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C84A-D014-4C5C-82ED-F15862228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9D30-6524-48D0-ABE8-F4AD4D048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80F4-28A2-40AA-864B-AFD84CBFE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3344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 TV SHOW THAT HAD THESE BROMA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df5ebeaa25eb80666ef5fa69d2a2605e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1ee0ed7d97d2be729cc096ee13b14fb1.jpg"/>
          <p:cNvPicPr/>
          <p:nvPr/>
        </p:nvPicPr>
        <p:blipFill>
          <a:blip r:embed="rId1"/>
          <a:stretch/>
        </p:blipFill>
        <p:spPr>
          <a:xfrm>
            <a:off x="1828800" y="1219320"/>
            <a:ext cx="560088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STON  LEGAL  (ALAN  &amp;  DENN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Boston-Legal-Alan-Denny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310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SYCH  (SHAWN  &amp;  GU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384619794ac0f169932528e44ce66d15.jpg"/>
          <p:cNvPicPr/>
          <p:nvPr/>
        </p:nvPicPr>
        <p:blipFill>
          <a:blip r:embed="rId1"/>
          <a:stretch/>
        </p:blipFill>
        <p:spPr>
          <a:xfrm>
            <a:off x="1828800" y="121932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FFICE  (DWIGHT  &amp;  MICHA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06d5522d87494c6b3276634f79912fad.jpg"/>
          <p:cNvPicPr/>
          <p:nvPr/>
        </p:nvPicPr>
        <p:blipFill>
          <a:blip r:embed="rId1"/>
          <a:stretch/>
        </p:blipFill>
        <p:spPr>
          <a:xfrm>
            <a:off x="1752480" y="1219320"/>
            <a:ext cx="5562720" cy="37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UBS  (TURK  &amp;  J.D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fef8a32c1ea63ce4f9e9a1bef51621ca.jpg"/>
          <p:cNvPicPr/>
          <p:nvPr/>
        </p:nvPicPr>
        <p:blipFill>
          <a:blip r:embed="rId1"/>
          <a:stretch/>
        </p:blipFill>
        <p:spPr>
          <a:xfrm>
            <a:off x="1905120" y="12193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57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IG  BANG  THEORY  (HOWARD  &amp;  RAJ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1f8756b8ab5aec7f32ebefce89dec80f.jpg"/>
          <p:cNvPicPr/>
          <p:nvPr/>
        </p:nvPicPr>
        <p:blipFill>
          <a:blip r:embed="rId1"/>
          <a:stretch/>
        </p:blipFill>
        <p:spPr>
          <a:xfrm>
            <a:off x="2076480" y="1236600"/>
            <a:ext cx="4991040" cy="332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57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OSE  LINE  IS  IT  ANYWAY?  (RYAN  &amp;  COLI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25b11cf572175e3673a0d80c7d494beb.jpg"/>
          <p:cNvPicPr/>
          <p:nvPr/>
        </p:nvPicPr>
        <p:blipFill>
          <a:blip r:embed="rId1"/>
          <a:stretch/>
        </p:blipFill>
        <p:spPr>
          <a:xfrm>
            <a:off x="2114640" y="1295280"/>
            <a:ext cx="491472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16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RS  (NORM  &amp;  CLIF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e57862941ace0e3a47669c5d04ce9d9a.jpg"/>
          <p:cNvPicPr/>
          <p:nvPr/>
        </p:nvPicPr>
        <p:blipFill>
          <a:blip r:embed="rId1"/>
          <a:stretch/>
        </p:blipFill>
        <p:spPr>
          <a:xfrm>
            <a:off x="1762200" y="1260360"/>
            <a:ext cx="5619600" cy="374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Boston-Legal-Alan-Denny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310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77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1752480" y="457200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ME  OF  THRONES  (TYRION  &amp;  VARY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gallery-1474895870-tyrion-varys.jpg"/>
          <p:cNvPicPr/>
          <p:nvPr/>
        </p:nvPicPr>
        <p:blipFill>
          <a:blip r:embed="rId1"/>
          <a:stretch/>
        </p:blipFill>
        <p:spPr>
          <a:xfrm>
            <a:off x="1943280" y="1254240"/>
            <a:ext cx="5257800" cy="330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  TREK  (SPOCK  &amp;  JI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df5ebeaa25eb80666ef5fa69d2a2605e.jpg"/>
          <p:cNvPicPr/>
          <p:nvPr/>
        </p:nvPicPr>
        <p:blipFill>
          <a:blip r:embed="rId1"/>
          <a:stretch/>
        </p:blipFill>
        <p:spPr>
          <a:xfrm>
            <a:off x="1943280" y="12952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9104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ENDS  (JOEY  &amp;  CHANDL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1ee0ed7d97d2be729cc096ee13b14fb1.jpg"/>
          <p:cNvPicPr/>
          <p:nvPr/>
        </p:nvPicPr>
        <p:blipFill>
          <a:blip r:embed="rId1"/>
          <a:stretch/>
        </p:blipFill>
        <p:spPr>
          <a:xfrm>
            <a:off x="1771560" y="1219320"/>
            <a:ext cx="560088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384619794ac0f169932528e44ce66d15.jpg"/>
          <p:cNvPicPr/>
          <p:nvPr/>
        </p:nvPicPr>
        <p:blipFill>
          <a:blip r:embed="rId1"/>
          <a:stretch/>
        </p:blipFill>
        <p:spPr>
          <a:xfrm>
            <a:off x="1828800" y="121932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06d5522d87494c6b3276634f79912fad.jpg"/>
          <p:cNvPicPr/>
          <p:nvPr/>
        </p:nvPicPr>
        <p:blipFill>
          <a:blip r:embed="rId1"/>
          <a:stretch/>
        </p:blipFill>
        <p:spPr>
          <a:xfrm>
            <a:off x="1828800" y="1219320"/>
            <a:ext cx="556272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fef8a32c1ea63ce4f9e9a1bef51621ca.jpg"/>
          <p:cNvPicPr/>
          <p:nvPr/>
        </p:nvPicPr>
        <p:blipFill>
          <a:blip r:embed="rId1"/>
          <a:stretch/>
        </p:blipFill>
        <p:spPr>
          <a:xfrm>
            <a:off x="1905120" y="121932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1f8756b8ab5aec7f32ebefce89dec80f.jpg"/>
          <p:cNvPicPr/>
          <p:nvPr/>
        </p:nvPicPr>
        <p:blipFill>
          <a:blip r:embed="rId1"/>
          <a:stretch/>
        </p:blipFill>
        <p:spPr>
          <a:xfrm>
            <a:off x="1981080" y="1282680"/>
            <a:ext cx="5181840" cy="34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25b11cf572175e3673a0d80c7d494beb.jpg"/>
          <p:cNvPicPr/>
          <p:nvPr/>
        </p:nvPicPr>
        <p:blipFill>
          <a:blip r:embed="rId1"/>
          <a:stretch/>
        </p:blipFill>
        <p:spPr>
          <a:xfrm>
            <a:off x="1981080" y="1219320"/>
            <a:ext cx="5181840" cy="345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e57862941ace0e3a47669c5d04ce9d9a.jpg"/>
          <p:cNvPicPr/>
          <p:nvPr/>
        </p:nvPicPr>
        <p:blipFill>
          <a:blip r:embed="rId1"/>
          <a:stretch/>
        </p:blipFill>
        <p:spPr>
          <a:xfrm>
            <a:off x="1714680" y="12952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gallery-1474895870-tyrion-varys.jpg"/>
          <p:cNvPicPr/>
          <p:nvPr/>
        </p:nvPicPr>
        <p:blipFill>
          <a:blip r:embed="rId1"/>
          <a:stretch/>
        </p:blipFill>
        <p:spPr>
          <a:xfrm>
            <a:off x="1779480" y="1257480"/>
            <a:ext cx="5585040" cy="3504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8T17:05:53Z</dcterms:created>
  <dc:creator>Jennifer Budzinski</dc:creator>
  <dc:description/>
  <dc:language>en-US</dc:language>
  <cp:lastModifiedBy>Erich Friedman</cp:lastModifiedBy>
  <dcterms:modified xsi:type="dcterms:W3CDTF">2020-09-04T14:24:23Z</dcterms:modified>
  <cp:revision>290</cp:revision>
  <dc:subject/>
  <dc:title>Slide 1</dc:title>
</cp:coreProperties>
</file>