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C0C3-47E6-48F8-9954-1A9BF735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8AE3-BE6E-45CE-B4B3-24236B27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B0B1-D3B4-4C3F-B38B-035A25530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2AA3-46BA-4D84-8F6D-19C21EA1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F80B-C57F-43A6-8690-638659D5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18A7-31D7-4A5A-97A4-E3D694D74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731F-898A-4EE7-BD6B-1E1D50294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81D-6ED6-4AF1-8257-604DB7F5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F843-74FD-48EA-A72D-F7C79F992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1079-FEBF-4A1E-9C78-F1E504708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705D-BA5A-4B3C-8554-D7D13278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F91-606C-4839-859E-2274F611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F0C8-180C-434E-B5A3-E595272F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4254-9D9E-46C6-B113-63C9D18F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613F-3F74-4F43-80D2-FAC683E7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014B-A82B-438B-B477-A6AE1C6C7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7540-407A-49B9-9A3E-89996E33C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B6C1-FD7B-47F0-8629-6967380F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EF8A-704B-44EF-A8F4-0824CA29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6341-930E-4A1E-89FF-5D3E16F71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19B9-5F88-49E9-A0F0-B079731F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90D5-2BA9-4E2E-A62C-2CC381450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3D4-F3D2-4455-B26E-F658B02F2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33344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ANIMATED TV CHARACTER BY THEIR CATCHPHR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, HEY, HE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YAM WHAT I YA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GS  B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056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'S UP DO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'OH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RY  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-TH-TH-THAT'S ALL FOLK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GRIEF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GGY  ("SCOOBY  DOO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INK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E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TAWT I TAW A PUDDY TA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47640" y="49528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FLINT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ABBA DABBA DOO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'S UP DO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QUAGMIRE  ("FAMILY  GUY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5000"/>
            <a:ext cx="7696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GGITY, GIGGIT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  A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, HEY, HE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YAM WHAT I YA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'OH!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-TH-TH-THAT'S ALL FOLK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GRIEF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INKS!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TAWT I TAW A PUDDY TA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ABBA DABBA DOO!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GGITY, GIGGIT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4:04:16Z</dcterms:created>
  <dc:creator>Jennifer Budzinski</dc:creator>
  <dc:description/>
  <dc:language>en-US</dc:language>
  <cp:lastModifiedBy>Erich Friedman</cp:lastModifiedBy>
  <dcterms:modified xsi:type="dcterms:W3CDTF">2020-09-04T14:31:09Z</dcterms:modified>
  <cp:revision>340</cp:revision>
  <dc:subject/>
  <dc:title>Slide 1</dc:title>
</cp:coreProperties>
</file>