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6413-79CF-4A98-BB2E-662E630C2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464B-7B47-4C86-A5EC-02555EA8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E6D-65BE-4938-93CE-2201F9F1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369-66A7-483B-87C4-6DD202D9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ABFB-50A2-460F-A3C7-972AE5A1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6C7-B1F7-4470-B64E-9F25A0B2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236-9D22-4AC4-BD8C-87E49483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4370-9F7C-4D68-9E06-F828BCAB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534-0537-4264-B7D9-ED6A3238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ECE7-ED1E-4F28-A510-0E28CCE3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500-AFA1-4476-BA53-164E1D64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008C-7628-43ED-92E9-39BFFC16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9440-C31C-4AD9-A769-54EC5A656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147F-201B-4144-874E-D8B2BB2D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D0C-F619-4C27-AF8B-2028B591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B655-84C9-4182-89D0-4373AE246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67CC-254C-47BA-AF9D-F6B232D5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276-4613-49AB-9E2B-A50AA853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10E-AE01-477A-9668-2099746B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450-3322-4EE9-BA2D-AD4874E5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F574-0EBE-4B78-8F7E-AB108480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FAF-41DA-47D3-A6AF-E007A1EB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DAC-22D3-4436-99CC-13370000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3344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ANIMATED TV CHARACTER BY THEIR CATCHPHR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GS  B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056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RY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GGY  ("SCOOBY  DOO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E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47640" y="49528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FLINT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QUAGMIRE  ("FAMILY  GU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5000"/>
            <a:ext cx="7696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04:16Z</dcterms:created>
  <dc:creator>Jennifer Budzinski</dc:creator>
  <dc:description/>
  <dc:language>en-US</dc:language>
  <cp:lastModifiedBy>Erich Friedman</cp:lastModifiedBy>
  <dcterms:modified xsi:type="dcterms:W3CDTF">2020-09-04T14:31:09Z</dcterms:modified>
  <cp:revision>340</cp:revision>
  <dc:subject/>
  <dc:title>Slide 1</dc:title>
</cp:coreProperties>
</file>