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E3D7-4372-4600-8ACE-582413A23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86FD-7B8E-430A-B5DD-9E0474118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B2D7-0699-452A-9138-6D8F3954F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FD90-01FF-4D61-9976-5A1233A0B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D5B3-5552-4678-9104-3232FA25F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3FBD-1FE3-4336-BC61-0D978082E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6A94-49E5-4D8D-BAB7-11B8D5A99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1B4E-E534-4C5A-B52F-AB2FE1817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2F40-38A4-4A9C-B5C2-9F7EACE13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8B6A-95FA-43CA-9334-B5319D1B7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CDD1-3002-4642-AB4B-DA87296E0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A30F-EF40-45BC-A960-915AB4AF4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EB89-A289-4D12-AA4F-ADBEAF7E0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EE27-E6A2-4564-91FC-A20F9060A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A243-6527-4483-91CC-9C29D0AF9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764A-C5CF-4BD3-B3E4-BF8913537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85D6-20D6-45DA-9E5F-75F2D1176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D81B-8374-46B4-A9F2-1F079D564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7C40-06F7-449D-9B75-2C63754A8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B856-693C-4C09-BBAB-7D9803AD8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C884-42D9-4EE8-A0BD-BF53EE612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4BAC-03DC-4824-982D-1B79BB3F9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90F9-A457-4FD6-B0CA-C771380BF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33344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ANIMATED TV CHARACTER BY THEIR CATCHPHR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Y, HEY, HEY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YAM WHAT I YAM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GGS  BU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60560" y="762120"/>
            <a:ext cx="7086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HAT'S UP DO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MER  SIMP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'OH!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95288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KRY  P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-TH-TH-THAT'S ALL FOLKS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 GRIEF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GGY  ("SCOOBY  DOO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ZOINKS!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E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TAWT I TAW A PUDDY TAT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647640" y="4952880"/>
            <a:ext cx="7848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  FLINT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ABBA DABBA DOO!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HAT'S UP DO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ENN  QUAGMIRE  ("FAMILY  GUY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23960" y="765000"/>
            <a:ext cx="76960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IGGITY, GIGGITY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T  ALB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HEY, HEY, HEY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YAM WHAT I YAM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'OH!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-TH-TH-THAT'S ALL FOLKS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OOD GRIEF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ZOINKS!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TAWT I TAW A PUDDY TAT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ABBA DABBA DOO!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GIGGITY, GIGGITY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1T14:04:16Z</dcterms:created>
  <dc:creator>Jennifer Budzinski</dc:creator>
  <dc:description/>
  <dc:language>en-US</dc:language>
  <cp:lastModifiedBy>Erich Friedman</cp:lastModifiedBy>
  <dcterms:modified xsi:type="dcterms:W3CDTF">2020-09-04T14:31:09Z</dcterms:modified>
  <cp:revision>340</cp:revision>
  <dc:subject/>
  <dc:title>Slide 1</dc:title>
</cp:coreProperties>
</file>