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AF0C-3D5D-4179-A4D0-470E94C8A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AF7-3E99-4373-A443-4333BD1A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D722-9050-4058-B3AA-10A179A07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52BF-3B1A-4248-9A21-5E13A9CA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F43D-FA4C-442A-8B47-9B90B8D34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A4CC-9FED-42C0-BB32-B3145B7A6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4FF2-3693-41E7-B7C8-3AB10D0C0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F232-E813-4898-9677-314BD7AB3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6E96-20CA-437F-A9E1-40F54202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F777-1DF2-4359-8F60-A418DBA4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117-E420-49C1-92E5-D5691BBE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E21B-9968-4EB1-B18F-D8A06C37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ADEB-64CE-4B94-A650-3A4F3776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CBCD-17D9-46F5-83B0-F478FB2F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27F6-4FA5-4629-9742-04ED5CD5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C8F8-BFC7-4352-B39E-E81DD18EE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18C6-C3CC-490D-B14A-344928ED0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C11E-8CCF-492C-B3FF-D891FBA2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6AE-3AAB-4327-B541-115B1ADB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8600-CB44-4C23-982D-E4B6F34EE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A61-C9EE-42A3-8FDF-96D95E38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6AB-2092-474A-8035-F16A180F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57B-A178-4B7B-BFC9-412B6A0E8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TV SHOW FROM ITS CHILD 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860480" y="1346040"/>
            <a:ext cx="542304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8360" y="496584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ADY  B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IN  THE 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6640"/>
            <a:ext cx="8534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286080" y="1295280"/>
            <a:ext cx="2571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4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658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 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  IS 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7664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51120" y="1295280"/>
            <a:ext cx="364176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06880"/>
            <a:ext cx="822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OFF  THE  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287360" y="1295280"/>
            <a:ext cx="656748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860480" y="1295280"/>
            <a:ext cx="54230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286080" y="1295280"/>
            <a:ext cx="257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4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2751120" y="1295280"/>
            <a:ext cx="3641760" cy="367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09:04:19Z</dcterms:modified>
  <cp:revision>289</cp:revision>
  <dc:subject/>
  <dc:title>Slide 1</dc:title>
</cp:coreProperties>
</file>