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0B1-4390-410B-9C12-FD21313E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66E-3E56-44F8-8B8F-81386320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685D-8C17-4618-925A-7B7F674A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ED4-6853-48E0-9524-5E355058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C97-E520-4D63-93F6-FB6FFC6D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AC3-4E0F-463E-94C4-1283DCBD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560A-395A-4EA5-B4FC-A972C01D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B384-BDD4-4D18-8D98-1CA867D4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16CC-AFDE-4820-ADFA-8DC119D4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DD9-D484-4FD7-BF9E-38750A2A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4EE3-0A08-423A-95EC-6D66CC7C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26B1-090F-4A3B-AFD9-53ECD7E3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12D-B1A0-4AB9-816B-29658BCC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CE47-7D85-4AD9-BD57-1F89E06C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28D-9E29-4618-BA05-3E6DDA6AA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01B7-C814-4088-BE63-7597DA24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9777-B2E1-47A6-96A1-4257A30F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BB3-59B8-47CB-95DE-0AD92B250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DEE0-D2E3-4CC2-A8CA-8DA622C3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A0D-C182-4C02-B90E-94135D10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F7A-6C55-4164-8A4F-CFE7AE16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1CD-4EAE-4A2F-8E0C-E30EF45F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1A86-2897-448C-AE90-FCA9CB93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TV SHOW FROM ITS CHILD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860480" y="134604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836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ADY  B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IN  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664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58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IS 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7664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06880"/>
            <a:ext cx="822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287360" y="1295280"/>
            <a:ext cx="656748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860480" y="129528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09:04:19Z</dcterms:modified>
  <cp:revision>289</cp:revision>
  <dc:subject/>
  <dc:title>Slide 1</dc:title>
</cp:coreProperties>
</file>