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D590E-45B5-4194-B074-22605BB364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00BBB-995C-4DD1-873F-F7ADA51D7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58F04-837C-475F-8872-59F6236F07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33077-30CA-44CB-9665-CDDB129FBA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A334E-B093-4C5B-B4E7-2CC48307BE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544F1-ECB0-4B6D-9CE8-1ED2212CD7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6E76A-4D1F-46BD-9FE4-5718E6277A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7C54C-6608-486E-9C38-6566450002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F1325-2808-4083-BBE1-CEC78E8684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57559-5B48-4FF4-8C02-58DB7C8CAE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7B8A8-4465-4C67-8B29-7319902517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C1559-F16B-4595-94B9-27AEA25E46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93385-8810-4418-994C-E2D54112B6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02C7B-A3D4-47AF-BC03-5BD5343BCC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090C1-492C-4D3C-B420-8164E03350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479A8-8A18-4FB6-B999-9A6CB4A6AE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B31CC-B455-4615-AC93-E5C44A9BAD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29D42-EBD9-4449-9091-6C8B197E52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6FAE7-DA13-4A65-9A6D-0BA0A26A96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9D030-07F5-44FA-9D23-C00CE35142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7E026-F478-43A1-9625-58329077B7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8EF33-AFD2-47A8-9446-7D17354138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67501-68CE-4DBB-8FAD-C53F78DF90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447560"/>
            <a:ext cx="6172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 TV SHOW FROM ITS CHILD ACTO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"/>
          <p:cNvPicPr/>
          <p:nvPr/>
        </p:nvPicPr>
        <p:blipFill>
          <a:blip r:embed="rId1"/>
          <a:stretch/>
        </p:blipFill>
        <p:spPr>
          <a:xfrm>
            <a:off x="1204920" y="1295280"/>
            <a:ext cx="6734160" cy="378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"/>
          <p:cNvPicPr/>
          <p:nvPr/>
        </p:nvPicPr>
        <p:blipFill>
          <a:blip r:embed="rId1"/>
          <a:stretch/>
        </p:blipFill>
        <p:spPr>
          <a:xfrm>
            <a:off x="1860480" y="1346040"/>
            <a:ext cx="5423040" cy="360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68360" y="496584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RADY  BUN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31520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LCOLM  IN  THE  MIDD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4" descr=""/>
          <p:cNvPicPr/>
          <p:nvPr/>
        </p:nvPicPr>
        <p:blipFill>
          <a:blip r:embed="rId1"/>
          <a:stretch/>
        </p:blipFill>
        <p:spPr>
          <a:xfrm>
            <a:off x="1914480" y="1295280"/>
            <a:ext cx="5315040" cy="359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4976640"/>
            <a:ext cx="85341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CK-I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"/>
          <p:cNvPicPr/>
          <p:nvPr/>
        </p:nvPicPr>
        <p:blipFill>
          <a:blip r:embed="rId1"/>
          <a:stretch/>
        </p:blipFill>
        <p:spPr>
          <a:xfrm>
            <a:off x="1608120" y="1295280"/>
            <a:ext cx="5927760" cy="368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MILY  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"/>
          <p:cNvPicPr/>
          <p:nvPr/>
        </p:nvPicPr>
        <p:blipFill>
          <a:blip r:embed="rId1"/>
          <a:stretch/>
        </p:blipFill>
        <p:spPr>
          <a:xfrm>
            <a:off x="3286080" y="1295280"/>
            <a:ext cx="257184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DERN  FAMI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2" descr=""/>
          <p:cNvPicPr/>
          <p:nvPr/>
        </p:nvPicPr>
        <p:blipFill>
          <a:blip r:embed="rId1"/>
          <a:stretch/>
        </p:blipFill>
        <p:spPr>
          <a:xfrm>
            <a:off x="1467000" y="1295280"/>
            <a:ext cx="6210000" cy="344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496584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RANGER  TH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"/>
          <p:cNvPicPr/>
          <p:nvPr/>
        </p:nvPicPr>
        <p:blipFill>
          <a:blip r:embed="rId1"/>
          <a:stretch/>
        </p:blipFill>
        <p:spPr>
          <a:xfrm>
            <a:off x="1792440" y="1295280"/>
            <a:ext cx="555912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IGHT  IS  ENOUG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2" descr=""/>
          <p:cNvPicPr/>
          <p:nvPr/>
        </p:nvPicPr>
        <p:blipFill>
          <a:blip r:embed="rId1"/>
          <a:stretch/>
        </p:blipFill>
        <p:spPr>
          <a:xfrm>
            <a:off x="2235240" y="1295280"/>
            <a:ext cx="467352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3152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43080" y="4976640"/>
            <a:ext cx="8458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ULL  HO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"/>
          <p:cNvPicPr/>
          <p:nvPr/>
        </p:nvPicPr>
        <p:blipFill>
          <a:blip r:embed="rId1"/>
          <a:stretch/>
        </p:blipFill>
        <p:spPr>
          <a:xfrm>
            <a:off x="2751120" y="1295280"/>
            <a:ext cx="3641760" cy="367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5006880"/>
            <a:ext cx="822960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5000"/>
          </a:bodyPr>
          <a:p>
            <a:pPr marL="85680" indent="-85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ESH  OFF  THE  BO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4" descr=""/>
          <p:cNvPicPr/>
          <p:nvPr/>
        </p:nvPicPr>
        <p:blipFill>
          <a:blip r:embed="rId1"/>
          <a:stretch/>
        </p:blipFill>
        <p:spPr>
          <a:xfrm>
            <a:off x="1287360" y="1295280"/>
            <a:ext cx="6567480" cy="369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FOS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4" descr=""/>
          <p:cNvPicPr/>
          <p:nvPr/>
        </p:nvPicPr>
        <p:blipFill>
          <a:blip r:embed="rId1"/>
          <a:stretch/>
        </p:blipFill>
        <p:spPr>
          <a:xfrm>
            <a:off x="1860480" y="1295280"/>
            <a:ext cx="5423040" cy="360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"/>
          <p:cNvPicPr/>
          <p:nvPr/>
        </p:nvPicPr>
        <p:blipFill>
          <a:blip r:embed="rId1"/>
          <a:stretch/>
        </p:blipFill>
        <p:spPr>
          <a:xfrm>
            <a:off x="1914480" y="1295280"/>
            <a:ext cx="5315040" cy="359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4" descr=""/>
          <p:cNvPicPr/>
          <p:nvPr/>
        </p:nvPicPr>
        <p:blipFill>
          <a:blip r:embed="rId1"/>
          <a:stretch/>
        </p:blipFill>
        <p:spPr>
          <a:xfrm>
            <a:off x="1608120" y="1295280"/>
            <a:ext cx="5927760" cy="368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"/>
          <p:cNvPicPr/>
          <p:nvPr/>
        </p:nvPicPr>
        <p:blipFill>
          <a:blip r:embed="rId1"/>
          <a:stretch/>
        </p:blipFill>
        <p:spPr>
          <a:xfrm>
            <a:off x="3286080" y="1295280"/>
            <a:ext cx="257184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"/>
          <p:cNvPicPr/>
          <p:nvPr/>
        </p:nvPicPr>
        <p:blipFill>
          <a:blip r:embed="rId1"/>
          <a:stretch/>
        </p:blipFill>
        <p:spPr>
          <a:xfrm>
            <a:off x="1467000" y="1295280"/>
            <a:ext cx="6210000" cy="344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"/>
          <p:cNvPicPr/>
          <p:nvPr/>
        </p:nvPicPr>
        <p:blipFill>
          <a:blip r:embed="rId1"/>
          <a:stretch/>
        </p:blipFill>
        <p:spPr>
          <a:xfrm>
            <a:off x="1792440" y="1295280"/>
            <a:ext cx="555912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"/>
          <p:cNvPicPr/>
          <p:nvPr/>
        </p:nvPicPr>
        <p:blipFill>
          <a:blip r:embed="rId1"/>
          <a:stretch/>
        </p:blipFill>
        <p:spPr>
          <a:xfrm>
            <a:off x="2235240" y="1295280"/>
            <a:ext cx="467352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4" descr=""/>
          <p:cNvPicPr/>
          <p:nvPr/>
        </p:nvPicPr>
        <p:blipFill>
          <a:blip r:embed="rId1"/>
          <a:stretch/>
        </p:blipFill>
        <p:spPr>
          <a:xfrm>
            <a:off x="2751120" y="1295280"/>
            <a:ext cx="3641760" cy="3678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0-09-05T09:04:19Z</dcterms:modified>
  <cp:revision>289</cp:revision>
  <dc:subject/>
  <dc:title>Slide 1</dc:title>
</cp:coreProperties>
</file>