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D9DF-AC07-424C-A204-C594C3AFA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1BE52-E300-4749-8129-29C871C15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6A7C-3A63-4F30-BFFB-2529EFCF2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2CA4-FDA2-442F-BBC2-B55059E13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62D0-310C-4288-BC3F-83C8E4207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C0FC-6366-4611-80EB-2FF033B14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ADFF-B738-418B-A0FB-AC3EC9C61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5126-7EDB-445F-9E1D-F1CC23926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F9C3C-92F5-48F0-9644-AA9B52200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6A4A-6E52-4675-8E4C-93A09A08F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8FF5-16C9-4C6A-B4AA-ABD79FA53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5069-8156-4D48-85C2-89A24C3B0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D20B-FB99-4D1E-BB5A-BEA263ECA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7B4B-C2EE-4298-B62F-1B3E9ACB5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1848-023C-44CC-A430-CC1829034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91A6-01F3-41B8-BB7E-3DB6A6A9A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1AE8-F2F4-4546-AE29-1CD3D40B1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AF8D-7226-4805-B97A-85E02738D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3AEB-3B31-4570-8925-A9BEB2232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09E31-09C8-4360-9A26-E7303E906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686F-FD71-47F7-B504-991E7E00B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0857-712A-418C-958C-D2C01EB1C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F779-AEE6-457F-8CBE-9E07B53C5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V FIRST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7617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1ST TV SHOW TO SHOW A WOMAN'S BELLY BUTTON?  "GILLIGAN'S ISLAND", "THE SONNY &amp; CHER COMEDY HOUR", OR           "I DREAM OF JEANNIE"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ACK ACTOR IN A LEADING ROLE, IN THE 1965 SERIES "I SP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LOVE  LU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81160" y="762120"/>
            <a:ext cx="6781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PREGNANCY AND BIRTH STORYLINE  WAS FEATURED ON WHAT TV SHOW IN 195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A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IME AN ACTOR ON A TOP-RATED SHOW DIED WAS DAN BLOCKER WHO PLAYED HOSS CARTWRIGHT.  WHAT WAS TH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  T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9072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INTERRACIAL KISS OCCURRED ON WHAT TV SHOW IN 196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980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28560" y="762120"/>
            <a:ext cx="788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LIVE SPORTS BROADCAST ON TV WAS THE OLYMPICS IN WHAT YEAR?  1936, 1944, OR 194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OTHER 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AP OPERA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V SHOW TO DISCUSS ABORTION?  "ANOTHER WORLD", "GUIDING LIGHT", OR "GENERAL HOSPITA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371600" y="762120"/>
            <a:ext cx="64008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AS THE FIRST TELEVISED RELIGIOUS SERVICE BROADCAST?  1930, 1935, OR 194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AVE  IT  TO  BEA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WAS THE FIRST TO SHOW A TOILET TANK (BUT NOT THE BOWL)?  "LEAVE IT TO BEAVER", "FATHER KNOWS BEST", OR "MY THREE SON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PREGNANCY AND BIRTH STORYLINE  WAS FEATURED ON WHAT TV SHOW IN 195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XON  &amp;  KENNE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295280" y="762120"/>
            <a:ext cx="65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TELEVISED PRESIDENTIAL DEBATE WAS BETWEEN WHAT TWO CANDID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ONNY  &amp;  CHER  COMEDY  H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43080" y="762120"/>
            <a:ext cx="8458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WAS THE 1ST TV SHOW TO SHOW A WOMAN'S BELLY BUTTON?  "GILLIGAN'S ISLAND", "THE SONNY &amp; CHER COMEDY HOUR", OR          "I DREAM OF JEANNIE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CO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BLACK ACTOR IN A LEADING ROLE, IN THE 1965 SERIES "I SP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IME AN ACTOR ON A TOP-RATED SHOW DIED WAS DAN BLOCKER WHO PLAYED HOSS CARTWRIGHT.  WHAT WAS THE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INTERRACIAL KISS OCCURRED ON WHAT TV SHOW IN 196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LIVE SPORTS BROADCAST ON TV WAS THE OLYMPICS IN WHAT YEAR?  1936, 1944, OR 194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2396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AP OPERA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V SHOW TO DISCUSS ABORTION?  "ANOTHER WORLD", "GUIDING LIGHT", OR "GENERAL HOSPIT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WAS THE FIRST TELEVISED RELIGIOUS SERVICE BROADCAST?  1930, 1935, OR 194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WAS THE FIRST TO SHOW A TOILET TANK (BUT NOT THE BOWL)?  "LEAVE IT TO BEAVER", "FATHER KNOWS BEST", OR "MY THREE SON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TELEVISED PRESIDENTIAL DEBATE WAS BETWEEN WHAT TWO CANDID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6:58:35Z</dcterms:created>
  <dc:creator>Jennifer Budzinski</dc:creator>
  <dc:description/>
  <dc:language>en-US</dc:language>
  <cp:lastModifiedBy>Erich Friedman</cp:lastModifiedBy>
  <dcterms:modified xsi:type="dcterms:W3CDTF">2021-04-25T19:27:04Z</dcterms:modified>
  <cp:revision>338</cp:revision>
  <dc:subject/>
  <dc:title>Slide 1</dc:title>
</cp:coreProperties>
</file>