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8817-3AD1-435B-8A1D-9F884F2D7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38EC-1AC6-4BF0-923D-752C25BE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F551-943F-4D11-B305-D2AA70569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2AC9-BBAA-4E28-BAB2-E4D0AEE0B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84E4-C368-4CE7-9CF2-8B189BACF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DF1-09AB-452E-B0E5-096D74CC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2D48-8865-4205-A6D2-F6275008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E7CE-A494-43B0-A16A-89C0A252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AD2A-68C1-4853-AACB-EDBB136B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C5B-0920-4640-B68F-A612662AD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D3AB-DF1C-4317-ABFB-72830970B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BD92-9097-45CF-B79B-CBA48253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DFE7-06B9-49C4-939F-6AA66956F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A3D9-665D-447A-8FC3-6C958182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0B01-14D7-4A10-AC22-7B5A82E7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5AE0-F124-48A8-8F8B-1D39758A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8227-2A2F-4F2A-BAD1-15FA34E9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582D-81B7-4E84-8C5D-689D6461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F6C6-4901-4B04-BE2E-67803ED95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C229-AA37-46B5-92AE-9EE59A777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15DE-9A51-47F5-9DFD-79182DE2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CA2E-D256-4524-B609-412CAE02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961A-6753-485E-AD8B-0D3B30AF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FIRS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1ST TV SHOW TO SHOW A WOMAN'S BELLY BUTTON?  "GILLIGAN'S ISLAND", "THE SONNY &amp; CHER COMEDY HOUR", OR           "I DREAM OF JEANNIE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CTOR IN A LEADING ROLE, IN THE 1965 SERIES "I S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PREGNANCY AND BIRTH STORYLINE  WAS FEATURED ON WHAT TV SHOW IN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ME AN ACTOR ON A TOP-RATED SHOW DIED WAS DAN BLOCKER WHO PLAYED HOSS CARTWRIGHT.  WHAT WAS TH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072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INTERRACIAL KISS OCCURRED ON WHAT TV SHOW IN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980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6212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LIVE SPORTS BROADCAST ON TV WAS THE OLYMPICS IN WHAT YEAR?  1936, 1944, OR 19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OTHER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OPERA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V SHOW TO DISCUSS ABORTION?  "ANOTHER WORLD", "GUIDING LIGHT", OR "GENERAL HOS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71600" y="7621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THE FIRST TELEVISED RELIGIOUS SERVICE BROADCAST?  1930, 1935, OR 194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VE  IT  TO  B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THE FIRST TO SHOW A TOILET TANK (BUT NOT THE BOWL)?  "LEAVE IT TO BEAVER", "FATHER KNOWS BEST", OR "MY THREE 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PREGNANCY AND BIRTH STORYLINE  WAS FEATURED ON WHAT TV SHOW IN 19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XON  &amp;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TELEVISED PRESIDENTIAL DEBATE WAS BETWEEN WHAT TWO CANDID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NNY  &amp;  CHER  COMEDY  H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4308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1ST TV SHOW TO SHOW A WOMAN'S BELLY BUTTON?  "GILLIGAN'S ISLAND", "THE SONNY &amp; CHER COMEDY HOUR", OR          "I DREAM OF JEANNI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CTOR IN A LEADING ROLE, IN THE 1965 SERIES "I S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ME AN ACTOR ON A TOP-RATED SHOW DIED WAS DAN BLOCKER WHO PLAYED HOSS CARTWRIGHT.  WHAT WAS TH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INTERRACIAL KISS OCCURRED ON WHAT TV SHOW IN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LIVE SPORTS BROADCAST ON TV WAS THE OLYMPICS IN WHAT YEAR?  1936, 1944, OR 19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2396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OPERA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V SHOW TO DISCUSS ABORTION?  "ANOTHER WORLD", "GUIDING LIGHT", OR "GENERAL HOSPI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THE FIRST TELEVISED RELIGIOUS SERVICE BROADCAST?  1930, 1935, OR 194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THE FIRST TO SHOW A TOILET TANK (BUT NOT THE BOWL)?  "LEAVE IT TO BEAVER", "FATHER KNOWS BEST", OR "MY THREE 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TELEVISED PRESIDENTIAL DEBATE WAS BETWEEN WHAT TWO CANDID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1-04-25T19:27:04Z</dcterms:modified>
  <cp:revision>338</cp:revision>
  <dc:subject/>
  <dc:title>Slide 1</dc:title>
</cp:coreProperties>
</file>