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4E20-934B-4EE4-980C-3DAC25E2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53FD-CF14-47B6-842D-BDCC601F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50BA-82A9-46BE-990A-A056237C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1559-2B86-45B0-B6F5-ABC133A81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224C-3B24-425D-9DB5-175564E7C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DECC-2FBD-4E1C-B13A-7864BA89D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5819-2164-40F8-851C-64F3AAAC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DA79-C187-4103-A483-22ABAE5ED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975D-0C10-4FF1-A3B0-1A63C8033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0DD0-6C9F-4BC8-BF07-A12A5FF3D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4A8D-3362-4F78-A65E-84A7E4B9A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BBE1-A620-43F2-8BDD-003927069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CD13-BFD3-4CC7-88FD-6CB2B39D6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6D68-449F-46AF-A226-6D9141436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4021-3AF7-42D8-8214-FDA2A24D6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F609-ECE6-4713-A1A5-AE01A1E6B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612E-E559-46E7-A639-9FC614A6E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DB62-73BE-4F85-9EF1-0F84A0DF2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0460-80F2-4B07-B0AA-A799A2C69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F7AE-E805-4BAE-879D-1B20385F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9B89-C1C7-4063-B18A-8E6E562DA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9D11-2F19-4C2D-AEBB-42CCC8703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A2FC-2694-42F4-B223-46EA0D48E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 TV SH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RAMA WAS THE #1 OR #2 TV SHOW FROM 2011 TO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WORD TV SHOW WAS THE HIGHEST RATED SHOW FROM 1985 TO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IN  THE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WORD TV SHOW WAS THE HIGHEST RATED SHOW FROM 1971 TO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WAS THE HIGHEST RATED TV SHOW FROM 1964 TO 19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9800"/>
            <a:ext cx="8229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 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500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PROGRAM WAS THE HIGHEST RATED SHOW FROM 1991 TO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1004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LOVE  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WORD TV SHOW WAS THE HIGHEST RATED SHOW FROM 1952 TO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CAL DRAMA WAS THE #1 OR #2 TV SHOW FROM 1994 TO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NSM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76160"/>
            <a:ext cx="7543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WAS THE HIGHEST RATED TV SHOW FROM 1957 TO 196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9996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NAMED FOR A CITY WAS THE HIGHEST RATED SHOW FROM 1980 TO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WORD TV SHOW WAS THE HIGHEST RATED SHOW FROM 1971 TO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71360" y="762120"/>
            <a:ext cx="8801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ING COMPETITION TV SHOW WAS THE HIGHEST RATED SHOW FROM 2005 TO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600200" y="487692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C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RAMA WAS THE #1 OR #2 TV SHOW FROM 2011 TO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SBY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WORD TV SHOW WAS THE HIGHEST RATED SHOW FROM 1985 TO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WAS THE HIGHEST RATED TV SHOW FROM 1964 TO 196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PROGRAM WAS THE HIGHEST RATED SHOW FROM 1991 TO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WORD TV SHOW WAS THE HIGHEST RATED SHOW FROM 1952 TO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CAL DRAMA WAS THE #1 OR #2 TV SHOW FROM 1994 TO 199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WAS THE HIGHEST RATED TV SHOW FROM 1957 TO 196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NAMED FOR A CITY WAS THE HIGHEST RATED SHOW FROM 1980 TO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ING COMPETITION TV SHOW WAS THE HIGHEST RATED SHOW FROM 2005 TO 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2-03-02T13:33:11Z</dcterms:modified>
  <cp:revision>337</cp:revision>
  <dc:subject/>
  <dc:title>Slide 1</dc:title>
</cp:coreProperties>
</file>