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D7ED-87E5-4809-8EFD-5C4544EF8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F4F3-2CE9-4AFD-922B-4ACBB2CFB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88D0-777C-44DB-B896-2B93E97F3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A10F-31A3-4991-881C-F38750871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35CF-41EF-44E8-B6FE-881AB8FFD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0203-75EF-4951-9B3B-3CC610B7F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A574-B641-4598-91FE-5610FB66E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1AAB-ACF0-41DA-AF72-1D0F75804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6935-EB00-43D9-A61D-394F4F9B7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1DE5-B6B8-4BEF-91BA-093D62932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C3EF-782E-4ACC-9AC9-9E2C67C00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AF6A-A487-497D-812C-0935F2933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0B6A-A00B-483F-9331-01BF23A8D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1FA5-A835-4769-B136-25BF495CD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6640-EBB2-4C26-AD93-823644246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52FD-76F8-445B-8E5C-5FE0A1659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D0CD-493A-43AC-AE3A-AE8E10A66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7E40-2432-418C-A633-C31F77FA4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0D66-5424-43BB-8C7E-8D341EF4A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5155-E1A8-4833-B8EF-1F02A5F6F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B774-A1B5-4FEE-8C93-58F534FE5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AA3D-47CA-421C-925D-DB322465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636B-3C2D-4CA1-A2C9-7A2F36374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 TV SH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RAMA WAS THE #1 OR #2 TV SHOW FROM 2011 TO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WORD TV SHOW WAS THE HIGHEST RATED SHOW FROM 1985 TO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IN  THE 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WORD TV SHOW WAS THE HIGHEST RATED SHOW FROM 1971 TO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WAS THE HIGHEST RATED TV SHOW FROM 1964 TO 19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9800"/>
            <a:ext cx="82296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 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500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 PROGRAM WAS THE HIGHEST RATED SHOW FROM 1991 TO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1004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LOVE  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WORD TV SHOW WAS THE HIGHEST RATED SHOW FROM 1952 TO 195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CAL DRAMA WAS THE #1 OR #2 TV SHOW FROM 1994 TO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NSM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76160"/>
            <a:ext cx="7543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WAS THE HIGHEST RATED TV SHOW FROM 1957 TO 196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99960" y="762120"/>
            <a:ext cx="834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NAMED FOR A CITY WAS THE HIGHEST RATED SHOW FROM 1980 TO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WORD TV SHOW WAS THE HIGHEST RATED SHOW FROM 1971 TO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ID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71360" y="762120"/>
            <a:ext cx="8801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ING COMPETITION TV SHOW WAS THE HIGHEST RATED SHOW FROM 2005 TO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600200" y="487692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C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RAMA WAS THE #1 OR #2 TV SHOW FROM 2011 TO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SBY 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WORD TV SHOW WAS THE HIGHEST RATED SHOW FROM 1985 TO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WAS THE HIGHEST RATED TV SHOW FROM 1964 TO 196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 PROGRAM WAS THE HIGHEST RATED SHOW FROM 1991 TO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WORD TV SHOW WAS THE HIGHEST RATED SHOW FROM 1952 TO 195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CAL DRAMA WAS THE #1 OR #2 TV SHOW FROM 1994 TO 199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WAS THE HIGHEST RATED TV SHOW FROM 1957 TO 196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NAMED FOR A CITY WAS THE HIGHEST RATED SHOW FROM 1980 TO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ING COMPETITION TV SHOW WAS THE HIGHEST RATED SHOW FROM 2005 TO 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8:35Z</dcterms:created>
  <dc:creator>Jennifer Budzinski</dc:creator>
  <dc:description/>
  <dc:language>en-US</dc:language>
  <cp:lastModifiedBy>Erich Friedman</cp:lastModifiedBy>
  <dcterms:modified xsi:type="dcterms:W3CDTF">2022-03-02T13:33:11Z</dcterms:modified>
  <cp:revision>337</cp:revision>
  <dc:subject/>
  <dc:title>Slide 1</dc:title>
</cp:coreProperties>
</file>